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92EE-3B14-49A1-B147-19685095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AC26-E6F6-42D0-9851-CDF70A98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CF70-D696-482A-86DE-3D4CF20B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E3CE-169B-4F62-A0BA-87D76926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B8B3-7F80-41B7-A287-7119BB89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7508-71FC-477F-9C43-8702DFEF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C0F3-B4FC-48A5-BC3B-7DA5A822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39CC-D77E-499C-B805-3A5C78AA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293760"/>
            <a:ext cx="86421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F443-7484-475D-B45A-575018FF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5198-4DD3-4737-B202-BCB326EE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F556-3226-4209-B8B5-EE51603B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CBFA-FF21-4E22-B6C4-FEF1BE8A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3031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6660720"/>
            <a:ext cx="2241360" cy="507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660720"/>
            <a:ext cx="3042000" cy="507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660720"/>
            <a:ext cx="2241360" cy="507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11DF4-06AD-4BD4-AD43-5865DC943683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00600" y="0"/>
            <a:ext cx="0" cy="731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657600"/>
            <a:ext cx="9601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-1440" y="3960"/>
            <a:ext cx="322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9280080" y="2160"/>
            <a:ext cx="320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79840" y="6924600"/>
            <a:ext cx="320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280440" y="6924600"/>
            <a:ext cx="320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3:11:21Z</dcterms:created>
  <dc:creator>nsmith</dc:creator>
  <dc:description/>
  <dc:language>en-US</dc:language>
  <cp:lastModifiedBy>nsmith</cp:lastModifiedBy>
  <dcterms:modified xsi:type="dcterms:W3CDTF">2010-05-07T14:39:27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